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0C6-9525-4CBE-ACD0-A3D99E3D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7C2-05D4-4A6F-8003-53E89D7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AC6-DD45-4780-9655-B8727C70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0EA-27F1-456C-90D9-1C7DFACB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326-2787-4FD7-9AF9-8CD9B6EC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C56-57CD-4E1C-ACB2-9C22C338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E00-5731-49AE-9433-2E5F2BA3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316-A882-414D-B187-F4A27C53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8DA-FB21-479B-8E8E-E4CB5161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E5C-C5D4-45FD-B8EE-68C7BBCA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E64-C88B-4196-B3A5-836BE21F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0CE-2986-4867-8B19-A14E2C80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2CD4-B376-4B28-A75E-01B2A3E21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ownhill911.com/pictures/img.php?img=home/Pictures-MTB-Downhill-911_845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ownhill911.com/pictures/img.php?img=home/Pictures-MTB-Downhill-911_84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ownhill911.com/pictures/img.php?img=home/Pictures-MTB-Downhill-911_866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ownhill911.com/pictures/img.php?img=home/Pictures-MTB-Downhill-911_877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ownhill911.com/pictures/img.php?img=home/Pictures-MTB-Downhill-911_90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4370"/>
            </a:gs>
            <a:gs pos="100000">
              <a:srgbClr val="66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ictures-MTB-Downhill-911_84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5238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untain bi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eee"/>
            </a:gs>
            <a:gs pos="100000">
              <a:srgbClr val="8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ictures-MTB-Downhill-911_84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781280"/>
            <a:ext cx="6248520" cy="507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-1692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ull suspension takes the edge off while putting the power on. That's the mission behind each of Gary's full-suspension offerings. And while the technology behind both front and rear suspension continues to advance at a dizzying pa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85fe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ictures-MTB-Downhill-911_86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0020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9320" y="90000"/>
            <a:ext cx="653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ts amazing how trials has developed and evolved over the past two decades, not only the bikes, but the techniques and levels of difficulty are unbelie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b1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Pictures-MTB-Downhill-911_87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692360"/>
            <a:ext cx="5791320" cy="516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-1389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riday the 13th or Big Friday was a day I won’t forget soon and maybe one of the best locations I have ever shot at? We were heading to the “Blowhole” for some natural waterworks, but didn’t know that it was trials paradi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a70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Pictures-MTB-Downhill-911_9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459080"/>
            <a:ext cx="6858000" cy="528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34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Over the years many people have asked me who would or could be the next ‘Hans’, I never knew what to reply, well, let me just say, this kid is not just a 8 time World Champ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060f06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Pictures-MTB-Downhill-911_905.jpg"/>
          <p:cNvPicPr/>
          <p:nvPr/>
        </p:nvPicPr>
        <p:blipFill>
          <a:blip r:embed="rId1"/>
          <a:stretch/>
        </p:blipFill>
        <p:spPr>
          <a:xfrm>
            <a:off x="914400" y="1658880"/>
            <a:ext cx="7391520" cy="519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9320" y="14400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rom sunny skies to big waves, we found everything we could have wished for, with the exception of a Hula girl. As the day went on the waves got bigger and b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00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ictures-MTB-Downhill-911_953.jpg"/>
          <p:cNvPicPr/>
          <p:nvPr/>
        </p:nvPicPr>
        <p:blipFill>
          <a:blip r:embed="rId1"/>
          <a:stretch/>
        </p:blipFill>
        <p:spPr>
          <a:xfrm>
            <a:off x="1523880" y="222876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ictures-MTB-Downhill-911_951.jpg"/>
          <p:cNvPicPr/>
          <p:nvPr/>
        </p:nvPicPr>
        <p:blipFill>
          <a:blip r:embed="rId2"/>
          <a:stretch/>
        </p:blipFill>
        <p:spPr>
          <a:xfrm>
            <a:off x="1219320" y="0"/>
            <a:ext cx="6705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45:19Z</dcterms:created>
  <dc:creator>764232</dc:creator>
  <dc:description/>
  <dc:language>en-US</dc:language>
  <cp:lastModifiedBy>764232</cp:lastModifiedBy>
  <dcterms:modified xsi:type="dcterms:W3CDTF">2009-03-31T15:27:00Z</dcterms:modified>
  <cp:revision>3</cp:revision>
  <dc:subject/>
  <dc:title>Slide 1</dc:title>
</cp:coreProperties>
</file>